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7E6F-F098-4CED-9A57-8D984C4A1C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onsider an example from today: e.g., the war in Iraq. Should we say that the justifications of the war by politicians and citizens, and in general the arguments over whether the war was justified, count for nothing? That the US really was motivated by, e.g., the desire to control oil resourc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Occurs in the second year of the war, at the height of Athenian pow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Hubris of the Athenian empire – the connection with 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t is especially the Athenians who propose this theor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ut if the Athenian empire is a tyranny, should it therefore ignore the demands of justice? The question is whether justice and interest go together or no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esbos revolts under the leadership of Mytilene. Happens in the fourth year of the war (Athens not yet “jaded”). The Athenian assembly reconsiders its decision to punish everyone  in Mytile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ucydides thinks that he can draw lessons about human nature and human history from a war between Athenians and Spartans; but can w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C364E-26A8-41EE-A9B5-7EB06622B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FA1D9-E0FD-41FC-8579-10AA72939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837F1-0D37-4264-A795-6E5149310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21EC0-7FCE-4BD4-B24B-E1E8CF24F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394D2-894F-4243-B82E-8FD33520F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A3074-7C21-40C9-ACE2-4E8C95992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FE920-D956-4190-A843-8464B55C7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591C1-13D3-4A7A-A4DF-B879C93DC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050C4-9B52-4196-A9A0-876021B98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9CA98-FC19-4457-8F26-107F15BB8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703D3-99E9-42BF-992B-296829BB9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B922C-1B0E-4089-A50A-41C398798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0437-DC22-47A4-A5FA-4A761D37CF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lassicpersuasion.org/pw/thucydides/thucydides-passages.php?pleaseget=2.35-46" TargetMode="External"/><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hyperlink" Target="http://www.classicpersuasion.org/pw/thucydides/thucydides-passages.php?pleaseget=5.84-116"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hyperlink" Target="http://www.classicpersuasion.org/pw/thucydides/thucydides-passages.php?pleaseget=1.21-23" TargetMode="External"/><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classicpersuasion.org/pw/thucydides/thucydides-passages.php?pleaseget=1.21-23" TargetMode="External"/><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68360" y="189000"/>
            <a:ext cx="3286080" cy="5715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ucydides</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July 11, 2008 L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causes” of the war</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is the alternative to Thucydides’ assertion that “the real cause” of the war was the growth of Athenian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f Thucydides is right, can we say who is to “blame” for the w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ericles’s Funeral Oration</a:t>
            </a:r>
            <a:endParaRPr b="0" lang="en-US" sz="4400" spc="-1" strike="noStrike">
              <a:solidFill>
                <a:srgbClr val="000000"/>
              </a:solidFill>
              <a:latin typeface="Arial"/>
            </a:endParaRPr>
          </a:p>
        </p:txBody>
      </p:sp>
      <p:pic>
        <p:nvPicPr>
          <p:cNvPr id="74" name="" descr=""/>
          <p:cNvPicPr/>
          <p:nvPr/>
        </p:nvPicPr>
        <p:blipFill>
          <a:blip r:embed="rId1"/>
          <a:stretch/>
        </p:blipFill>
        <p:spPr>
          <a:xfrm>
            <a:off x="1692360" y="1322280"/>
            <a:ext cx="5761080" cy="553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hubris of Athen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e shall assuredly not be without witnesses; there are mighty monuments of our power which will make us the wonder of this and of succeeding ages; we shall not need the praises of Homer … For we have compelled every land and every sea to open a path for our daring, and have everywhere planted eternal memorials of our good and bad deeds. (</a:t>
            </a:r>
            <a:r>
              <a:rPr b="0" lang="en-US" sz="3200" spc="-1" strike="noStrike" u="sng">
                <a:solidFill>
                  <a:srgbClr val="009999"/>
                </a:solidFill>
                <a:uFillTx/>
                <a:latin typeface="Arial"/>
                <a:hlinkClick r:id="rId1"/>
              </a:rPr>
              <a:t>2.41</a:t>
            </a:r>
            <a:r>
              <a:rPr b="0" lang="en-US" sz="3200" spc="-1" strike="noStrike" u="sng">
                <a:solidFill>
                  <a:srgbClr val="000000"/>
                </a:solidFill>
                <a:uFillTx/>
                <a:latin typeface="Arial"/>
              </a:rPr>
              <a:t>, Jowett trans., mod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Athenian ideal</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s the ideal Pericles describes attra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is the point of political life for Peric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mmortal f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Plague</a:t>
            </a:r>
            <a:endParaRPr b="0" lang="en-US" sz="4400" spc="-1" strike="noStrike">
              <a:solidFill>
                <a:srgbClr val="000000"/>
              </a:solidFill>
              <a:latin typeface="Arial"/>
            </a:endParaRPr>
          </a:p>
        </p:txBody>
      </p:sp>
      <p:pic>
        <p:nvPicPr>
          <p:cNvPr id="80" name="" descr=""/>
          <p:cNvPicPr/>
          <p:nvPr/>
        </p:nvPicPr>
        <p:blipFill>
          <a:blip r:embed="rId1"/>
          <a:stretch/>
        </p:blipFill>
        <p:spPr>
          <a:xfrm>
            <a:off x="611280" y="1341360"/>
            <a:ext cx="7705800" cy="513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403280" y="1125360"/>
            <a:ext cx="6335640" cy="55692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Athenian empi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empire as a tyranny</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r what you hold is, to speak somewhat plainly, a tyranny; to take it perhaps was wrong, but to let it go is unsafe (Pericles in a later speech, 2.6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Justice and Interest: The Mytilenian Debate</a:t>
            </a:r>
            <a:endParaRPr b="0" lang="en-US" sz="4000" spc="-1" strike="noStrike">
              <a:solidFill>
                <a:srgbClr val="000000"/>
              </a:solidFill>
              <a:latin typeface="Arial"/>
            </a:endParaRPr>
          </a:p>
        </p:txBody>
      </p:sp>
      <p:pic>
        <p:nvPicPr>
          <p:cNvPr id="86" name="" descr=""/>
          <p:cNvPicPr/>
          <p:nvPr/>
        </p:nvPicPr>
        <p:blipFill>
          <a:blip r:embed="rId1"/>
          <a:stretch/>
        </p:blipFill>
        <p:spPr>
          <a:xfrm>
            <a:off x="1619280" y="1557360"/>
            <a:ext cx="6119640" cy="5130720"/>
          </a:xfrm>
          <a:prstGeom prst="rect">
            <a:avLst/>
          </a:prstGeom>
          <a:ln w="0">
            <a:noFill/>
          </a:ln>
        </p:spPr>
      </p:pic>
      <p:sp>
        <p:nvSpPr>
          <p:cNvPr id="87" name=""/>
          <p:cNvSpPr/>
          <p:nvPr/>
        </p:nvSpPr>
        <p:spPr>
          <a:xfrm>
            <a:off x="5232240" y="3571920"/>
            <a:ext cx="911520" cy="635040"/>
          </a:xfrm>
          <a:custGeom>
            <a:avLst/>
            <a:gdLst/>
            <a:ahLst/>
            <a:rect l="l" t="t" r="r" b="b"/>
            <a:pathLst>
              <a:path w="2531" h="1762">
                <a:moveTo>
                  <a:pt x="15577" y="11609"/>
                </a:moveTo>
                <a:cubicBezTo>
                  <a:pt x="15441" y="11609"/>
                  <a:pt x="15312" y="11598"/>
                  <a:pt x="15180" y="11584"/>
                </a:cubicBezTo>
                <a:cubicBezTo>
                  <a:pt x="15083" y="11573"/>
                  <a:pt x="15009" y="11518"/>
                  <a:pt x="14908" y="11485"/>
                </a:cubicBezTo>
                <a:cubicBezTo>
                  <a:pt x="14831" y="11459"/>
                  <a:pt x="14782" y="11406"/>
                  <a:pt x="14709" y="11361"/>
                </a:cubicBezTo>
                <a:cubicBezTo>
                  <a:pt x="14665" y="11334"/>
                  <a:pt x="14639" y="11315"/>
                  <a:pt x="14610" y="11286"/>
                </a:cubicBezTo>
                <a:cubicBezTo>
                  <a:pt x="14567" y="11244"/>
                  <a:pt x="14570" y="11240"/>
                  <a:pt x="14560" y="11187"/>
                </a:cubicBezTo>
                <a:cubicBezTo>
                  <a:pt x="14550" y="11136"/>
                  <a:pt x="14541" y="11061"/>
                  <a:pt x="14536" y="11013"/>
                </a:cubicBezTo>
                <a:cubicBezTo>
                  <a:pt x="14527" y="10917"/>
                  <a:pt x="14537" y="10829"/>
                  <a:pt x="14560" y="10740"/>
                </a:cubicBezTo>
                <a:cubicBezTo>
                  <a:pt x="14572" y="10693"/>
                  <a:pt x="14599" y="10656"/>
                  <a:pt x="14635" y="10616"/>
                </a:cubicBezTo>
                <a:cubicBezTo>
                  <a:pt x="14700" y="10546"/>
                  <a:pt x="14767" y="10495"/>
                  <a:pt x="14833" y="10418"/>
                </a:cubicBezTo>
                <a:cubicBezTo>
                  <a:pt x="14893" y="10348"/>
                  <a:pt x="14957" y="10282"/>
                  <a:pt x="15032" y="10220"/>
                </a:cubicBezTo>
                <a:cubicBezTo>
                  <a:pt x="15075" y="10185"/>
                  <a:pt x="15122" y="10125"/>
                  <a:pt x="15180" y="10096"/>
                </a:cubicBezTo>
                <a:cubicBezTo>
                  <a:pt x="15229" y="10072"/>
                  <a:pt x="15276" y="10055"/>
                  <a:pt x="15329" y="10021"/>
                </a:cubicBezTo>
                <a:cubicBezTo>
                  <a:pt x="15369" y="9996"/>
                  <a:pt x="15412" y="9963"/>
                  <a:pt x="15453" y="9947"/>
                </a:cubicBezTo>
                <a:cubicBezTo>
                  <a:pt x="15499" y="9929"/>
                  <a:pt x="15519" y="9926"/>
                  <a:pt x="15577" y="9922"/>
                </a:cubicBezTo>
                <a:cubicBezTo>
                  <a:pt x="15672" y="9915"/>
                  <a:pt x="15759" y="9925"/>
                  <a:pt x="15850" y="9947"/>
                </a:cubicBezTo>
                <a:cubicBezTo>
                  <a:pt x="15985" y="9980"/>
                  <a:pt x="16112" y="9999"/>
                  <a:pt x="16247" y="10021"/>
                </a:cubicBezTo>
                <a:cubicBezTo>
                  <a:pt x="16307" y="10031"/>
                  <a:pt x="16471" y="10062"/>
                  <a:pt x="16520" y="10096"/>
                </a:cubicBezTo>
                <a:cubicBezTo>
                  <a:pt x="16554" y="10119"/>
                  <a:pt x="16566" y="10115"/>
                  <a:pt x="16594" y="10145"/>
                </a:cubicBezTo>
                <a:cubicBezTo>
                  <a:pt x="16624" y="10177"/>
                  <a:pt x="16676" y="10256"/>
                  <a:pt x="16694" y="10294"/>
                </a:cubicBezTo>
                <a:cubicBezTo>
                  <a:pt x="16711" y="10329"/>
                  <a:pt x="16738" y="10405"/>
                  <a:pt x="16743" y="10418"/>
                </a:cubicBezTo>
                <a:cubicBezTo>
                  <a:pt x="16758" y="10459"/>
                  <a:pt x="16809" y="10525"/>
                  <a:pt x="16818" y="10567"/>
                </a:cubicBezTo>
                <a:cubicBezTo>
                  <a:pt x="16843" y="10681"/>
                  <a:pt x="16872" y="10765"/>
                  <a:pt x="16942" y="10864"/>
                </a:cubicBezTo>
                <a:cubicBezTo>
                  <a:pt x="16974" y="10909"/>
                  <a:pt x="17051" y="10985"/>
                  <a:pt x="17066" y="11038"/>
                </a:cubicBezTo>
                <a:cubicBezTo>
                  <a:pt x="17083" y="11097"/>
                  <a:pt x="17074" y="11218"/>
                  <a:pt x="17041" y="11261"/>
                </a:cubicBezTo>
                <a:cubicBezTo>
                  <a:pt x="17026" y="11280"/>
                  <a:pt x="16994" y="11282"/>
                  <a:pt x="16966" y="11311"/>
                </a:cubicBezTo>
                <a:cubicBezTo>
                  <a:pt x="16941" y="11336"/>
                  <a:pt x="16896" y="11387"/>
                  <a:pt x="16867" y="11410"/>
                </a:cubicBezTo>
                <a:cubicBezTo>
                  <a:pt x="16813" y="11453"/>
                  <a:pt x="16840" y="11436"/>
                  <a:pt x="16768" y="11460"/>
                </a:cubicBezTo>
                <a:cubicBezTo>
                  <a:pt x="16734" y="11472"/>
                  <a:pt x="16725" y="11490"/>
                  <a:pt x="16694" y="11509"/>
                </a:cubicBezTo>
                <a:cubicBezTo>
                  <a:pt x="16629" y="11550"/>
                  <a:pt x="16658" y="11546"/>
                  <a:pt x="16594" y="11559"/>
                </a:cubicBezTo>
                <a:cubicBezTo>
                  <a:pt x="16540" y="11570"/>
                  <a:pt x="16512" y="11546"/>
                  <a:pt x="16470" y="11534"/>
                </a:cubicBezTo>
                <a:cubicBezTo>
                  <a:pt x="16421" y="11519"/>
                  <a:pt x="16381" y="11492"/>
                  <a:pt x="16321" y="11485"/>
                </a:cubicBezTo>
                <a:cubicBezTo>
                  <a:pt x="16255" y="11477"/>
                  <a:pt x="16209" y="11467"/>
                  <a:pt x="16148" y="11460"/>
                </a:cubicBezTo>
                <a:cubicBezTo>
                  <a:pt x="16085" y="11453"/>
                  <a:pt x="16036" y="11441"/>
                  <a:pt x="15974" y="11435"/>
                </a:cubicBezTo>
                <a:cubicBezTo>
                  <a:pt x="15899" y="11427"/>
                  <a:pt x="15824" y="11418"/>
                  <a:pt x="15751" y="11410"/>
                </a:cubicBezTo>
                <a:cubicBezTo>
                  <a:pt x="15667" y="11401"/>
                  <a:pt x="15596" y="11410"/>
                  <a:pt x="15528" y="11435"/>
                </a:cubicBezTo>
                <a:cubicBezTo>
                  <a:pt x="15490" y="11449"/>
                  <a:pt x="15502" y="11460"/>
                  <a:pt x="15478" y="11485"/>
                </a:cubicBezTo>
                <a:cubicBezTo>
                  <a:pt x="15423" y="11543"/>
                  <a:pt x="15449" y="11537"/>
                  <a:pt x="15429" y="11609"/>
                </a:cubicBezTo>
                <a:cubicBezTo>
                  <a:pt x="15422" y="11634"/>
                  <a:pt x="15381" y="11678"/>
                  <a:pt x="15379" y="1168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the relationship between interest and justice?</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leon: Justice and interest go together: the Mytilenians must be punish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iodotus: Our interests require mercy, regardless of jus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Athenians’ conscience: To use collective punishment is cruel and unjust; we do not feel up to it, even if our interests dictate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s “realism” realistic?</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t>
            </a:r>
            <a:r>
              <a:rPr b="0" lang="en-NZ" sz="4400" spc="-1" strike="noStrike">
                <a:solidFill>
                  <a:srgbClr val="000000"/>
                </a:solidFill>
                <a:latin typeface="Arial"/>
              </a:rPr>
              <a:t>International Relation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is “international relations” abou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istinctions between insiders and outsid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lationships between insiders and outsiders (as a group or individu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Melian Dialogue</a:t>
            </a:r>
            <a:endParaRPr b="0" lang="en-US" sz="4400" spc="-1" strike="noStrike">
              <a:solidFill>
                <a:srgbClr val="000000"/>
              </a:solidFill>
              <a:latin typeface="Arial"/>
            </a:endParaRPr>
          </a:p>
        </p:txBody>
      </p:sp>
      <p:pic>
        <p:nvPicPr>
          <p:cNvPr id="93" name="" descr=""/>
          <p:cNvPicPr/>
          <p:nvPr/>
        </p:nvPicPr>
        <p:blipFill>
          <a:blip r:embed="rId1"/>
          <a:stretch/>
        </p:blipFill>
        <p:spPr>
          <a:xfrm>
            <a:off x="1476360" y="1593720"/>
            <a:ext cx="6264360" cy="4714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Melian Dialogu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both alike know that into the discussion of human affairs the question of justice only enters where there is equal power to enforce it, and that the powerful exact what they can, and the weak grant what they must. (</a:t>
            </a:r>
            <a:r>
              <a:rPr b="0" lang="en-US" sz="3200" spc="-1" strike="noStrike" u="sng">
                <a:solidFill>
                  <a:srgbClr val="009999"/>
                </a:solidFill>
                <a:uFillTx/>
                <a:latin typeface="Arial"/>
                <a:hlinkClick r:id="rId1"/>
              </a:rPr>
              <a:t>5.89</a:t>
            </a:r>
            <a:r>
              <a:rPr b="0" lang="en-US" sz="3200" spc="-1" strike="noStrike" u="sng">
                <a:solidFill>
                  <a:srgbClr val="000000"/>
                </a:solidFill>
                <a:uFillTx/>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thenian argument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danger of losing face: they cannot allow a small island to be free for fear of revolts among their own subjects </a:t>
            </a:r>
            <a:r>
              <a:rPr b="0" lang="en-GB" sz="3200" spc="-1" strike="noStrike">
                <a:solidFill>
                  <a:srgbClr val="000000"/>
                </a:solidFill>
                <a:latin typeface="Arial"/>
              </a:rPr>
              <a:t>(5.9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in the interests of the Melians to yield </a:t>
            </a:r>
            <a:r>
              <a:rPr b="0" lang="en-GB" sz="3200" spc="-1" strike="noStrike">
                <a:solidFill>
                  <a:srgbClr val="000000"/>
                </a:solidFill>
                <a:latin typeface="Arial"/>
              </a:rPr>
              <a:t>(5.9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pe is not a plan (</a:t>
            </a:r>
            <a:r>
              <a:rPr b="0" lang="en-GB" sz="3200" spc="-1" strike="noStrike">
                <a:solidFill>
                  <a:srgbClr val="000000"/>
                </a:solidFill>
                <a:latin typeface="Arial"/>
              </a:rPr>
              <a:t>5.10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re is no dishonor in yielding to a great city like Athens (</a:t>
            </a:r>
            <a:r>
              <a:rPr b="0" lang="en-GB" sz="3200" spc="-1" strike="noStrike">
                <a:solidFill>
                  <a:srgbClr val="000000"/>
                </a:solidFill>
                <a:latin typeface="Arial"/>
              </a:rPr>
              <a:t>5.111.2-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Melian responses</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Just treatment is the best guarantee of an empire – the Athenians may be on the losin side one 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hens will create more enemies by enslaving the Meli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outcome of war is always dubi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Outcome</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the end, the Melians prefer to defend themselves and attempt to preserve their liberty, and after some initially successful resistance, are ultimately crush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icilian Disaster</a:t>
            </a:r>
            <a:endParaRPr b="0" lang="en-US" sz="4400" spc="-1" strike="noStrike">
              <a:solidFill>
                <a:srgbClr val="000000"/>
              </a:solidFill>
              <a:latin typeface="Arial"/>
            </a:endParaRPr>
          </a:p>
        </p:txBody>
      </p:sp>
      <p:pic>
        <p:nvPicPr>
          <p:cNvPr id="103" name="" descr=""/>
          <p:cNvPicPr/>
          <p:nvPr/>
        </p:nvPicPr>
        <p:blipFill>
          <a:blip r:embed="rId1"/>
          <a:stretch/>
        </p:blipFill>
        <p:spPr>
          <a:xfrm>
            <a:off x="1332000" y="1268280"/>
            <a:ext cx="6546600" cy="5322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s “realism” realistic?</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oes justice ma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hy start with Thucydides?</a:t>
            </a:r>
            <a:endParaRPr b="0" lang="en-US" sz="4400" spc="-1" strike="noStrike">
              <a:solidFill>
                <a:srgbClr val="000000"/>
              </a:solidFill>
              <a:latin typeface="Arial"/>
            </a:endParaRPr>
          </a:p>
        </p:txBody>
      </p:sp>
      <p:pic>
        <p:nvPicPr>
          <p:cNvPr id="54" name="" descr=""/>
          <p:cNvPicPr/>
          <p:nvPr/>
        </p:nvPicPr>
        <p:blipFill>
          <a:blip r:embed="rId1"/>
          <a:stretch/>
        </p:blipFill>
        <p:spPr>
          <a:xfrm>
            <a:off x="3348000" y="1413000"/>
            <a:ext cx="2649600" cy="460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003640" y="3833640"/>
            <a:ext cx="3811680" cy="302436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thens – A Naval Power</a:t>
            </a:r>
            <a:endParaRPr b="0" lang="en-US" sz="4400" spc="-1" strike="noStrike">
              <a:solidFill>
                <a:srgbClr val="000000"/>
              </a:solidFill>
              <a:latin typeface="Arial"/>
            </a:endParaRPr>
          </a:p>
        </p:txBody>
      </p:sp>
      <p:pic>
        <p:nvPicPr>
          <p:cNvPr id="57" name="" descr=""/>
          <p:cNvPicPr/>
          <p:nvPr/>
        </p:nvPicPr>
        <p:blipFill>
          <a:blip r:embed="rId2"/>
          <a:stretch/>
        </p:blipFill>
        <p:spPr>
          <a:xfrm>
            <a:off x="395280" y="1197000"/>
            <a:ext cx="570564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756720" cy="690408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0000"/>
                </a:solidFill>
                <a:latin typeface="Arial"/>
              </a:rPr>
              <a:t>Sparta – a Land Power</a:t>
            </a:r>
            <a:endParaRPr b="0" lang="en-US" sz="5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4932360" y="1341360"/>
            <a:ext cx="3343320" cy="518472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Peloponnesian War</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asted from 431BC to 404B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Athenians eventually lo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ut the whole Greek world was more or less ruin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ucydides thinks he can draw general lessons from the war</a:t>
            </a:r>
            <a:endParaRPr b="0" lang="en-US" sz="2800" spc="-1" strike="noStrike">
              <a:solidFill>
                <a:srgbClr val="000000"/>
              </a:solidFill>
              <a:latin typeface="Arial"/>
            </a:endParaRPr>
          </a:p>
        </p:txBody>
      </p:sp>
      <p:sp>
        <p:nvSpPr>
          <p:cNvPr id="64" name="PlaceHolder 3"/>
          <p:cNvSpPr>
            <a:spLocks noGrp="1"/>
          </p:cNvSpPr>
          <p:nvPr>
            <p:ph/>
          </p:nvPr>
        </p:nvSpPr>
        <p:spPr>
          <a:xfrm>
            <a:off x="4642920" y="1557360"/>
            <a:ext cx="4038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history as a general reflection</a:t>
            </a:r>
            <a:endParaRPr b="0" lang="en-US" sz="4000" spc="-1" strike="noStrike">
              <a:solidFill>
                <a:srgbClr val="000000"/>
              </a:solidFill>
              <a:latin typeface="Arial"/>
            </a:endParaRPr>
          </a:p>
        </p:txBody>
      </p:sp>
      <p:sp>
        <p:nvSpPr>
          <p:cNvPr id="66"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f he who desires to have before his eyes a true picture of the events which have happened, and of the like events which may be expected to happen hereafter in the order of human things, shall pronounce what I have written to be useful, then I shall be satisfied. My history is an everlasting possession, not a prize composition which is heard and forgotten.  (</a:t>
            </a:r>
            <a:r>
              <a:rPr b="0" lang="en-US" sz="2800" spc="-1" strike="noStrike" u="sng">
                <a:solidFill>
                  <a:srgbClr val="009999"/>
                </a:solidFill>
                <a:uFillTx/>
                <a:latin typeface="Arial"/>
                <a:hlinkClick r:id="rId1"/>
              </a:rPr>
              <a:t>1.22</a:t>
            </a:r>
            <a:r>
              <a:rPr b="0" lang="en-US" sz="2800" spc="-1" strike="noStrike" u="sng">
                <a:solidFill>
                  <a:srgbClr val="000000"/>
                </a:solidFill>
                <a:uFillTx/>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t>
            </a:r>
            <a:r>
              <a:rPr b="0" lang="en-NZ" sz="4400" spc="-1" strike="noStrike">
                <a:solidFill>
                  <a:srgbClr val="000000"/>
                </a:solidFill>
                <a:latin typeface="Arial"/>
              </a:rPr>
              <a:t>Realism”</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ucydides is often said to be the “father” of the realist school of international relation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do we mean by “realism”?</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view that in “international” relations (relations across the insiders/outsiders divide) morality is generally impotent, and considerations of interest and power rule</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s “realism” realistic?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s Thucydides a realist?</a:t>
            </a:r>
            <a:endParaRPr b="0" lang="en-US" sz="4400" spc="-1" strike="noStrike">
              <a:solidFill>
                <a:srgbClr val="000000"/>
              </a:solidFill>
              <a:latin typeface="Arial"/>
            </a:endParaRPr>
          </a:p>
        </p:txBody>
      </p:sp>
      <p:sp>
        <p:nvSpPr>
          <p:cNvPr id="70"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eal though unavowed cause [of the war] I believe to have been the growth of the Athenian power, which terrified the Lacedaemonians and forced them into war (</a:t>
            </a:r>
            <a:r>
              <a:rPr b="0" lang="en-GB" sz="2800" spc="-1" strike="noStrike" u="sng">
                <a:solidFill>
                  <a:srgbClr val="009999"/>
                </a:solidFill>
                <a:uFillTx/>
                <a:latin typeface="Arial"/>
                <a:hlinkClick r:id="rId1"/>
              </a:rPr>
              <a:t>1.23</a:t>
            </a:r>
            <a:r>
              <a:rPr b="0" lang="en-GB"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2T22:45:23Z</dcterms:created>
  <dc:creator>Full Name</dc:creator>
  <dc:description/>
  <dc:language>en-US</dc:language>
  <cp:lastModifiedBy>Full Name</cp:lastModifiedBy>
  <dcterms:modified xsi:type="dcterms:W3CDTF">2008-07-10T22:08:34Z</dcterms:modified>
  <cp:revision>8</cp:revision>
  <dc:subject/>
  <dc:title>Thucydides</dc:title>
</cp:coreProperties>
</file>